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BE7-FB87-4919-ADD9-A3D01952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E12-ECA0-4FB4-8229-28344C8E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5CD-4BAD-44C1-81D3-6D9D09D5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AE3-0593-4C28-98AF-30955BAA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D01-D1F2-4168-91A9-3505D60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900-8CE6-4FF6-AF80-0931EC5D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77D-0280-425F-A40E-03E5425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A70-B9FD-4544-8432-299E49D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8A2-954A-490B-8172-8E4AEFC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B6D-FFFF-4FAA-8DD4-A3E010A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66F-BCA2-470A-852C-014026D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9AE-2759-40F1-B1EF-8BA787A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8577-05EA-46AE-8235-624A76F50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3T11:39:29Z</dcterms:created>
  <dc:creator/>
  <dc:description/>
  <dc:language>en-US</dc:language>
  <cp:lastModifiedBy>xiaocong</cp:lastModifiedBy>
  <dcterms:modified xsi:type="dcterms:W3CDTF">2020-01-03T11:39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1.0.9061</vt:lpwstr>
  </property>
</Properties>
</file>