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59025"/>
        <c:axId val="44807517"/>
      </c:barChart>
      <c:catAx>
        <c:axId val="65159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7517"/>
        <c:crosses val="autoZero"/>
        <c:auto val="1"/>
        <c:lblAlgn val="ctr"/>
        <c:lblOffset val="100"/>
        <c:noMultiLvlLbl val="0"/>
      </c:catAx>
      <c:valAx>
        <c:axId val="4480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9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7D0-A200-4CFC-A331-B6BEE29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286-3B26-4292-9C5F-0D5534E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10D-CD52-4ECC-9817-CBCC8D1C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BA3-9580-4872-A4F7-73269D1D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96B-DC6F-4E2A-8937-7AA2DD4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B94-A53A-4743-9147-2E03C7E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1EF-2793-461C-B7BE-9A4D773A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6EA-B349-4C42-B232-5482A14F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4ED-C66D-4173-A414-199BD37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192-AB94-463D-9075-05D4243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1E3-DDDC-4835-AEFC-77E4A68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0C8-D89E-45EC-A49A-898C5B8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16216-980E-4012-8725-97DD2D6B82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