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61837"/>
        <c:axId val="97948544"/>
      </c:barChart>
      <c:catAx>
        <c:axId val="94961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48544"/>
        <c:crosses val="autoZero"/>
        <c:auto val="1"/>
        <c:lblAlgn val="ctr"/>
        <c:lblOffset val="100"/>
        <c:noMultiLvlLbl val="0"/>
      </c:catAx>
      <c:valAx>
        <c:axId val="97948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1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FEC-ABA1-478A-8D26-104E4ADE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273-AC66-442D-9EE3-C7F8D4D0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B5D-5F06-40DE-8F47-7082FD64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7FA-A476-4A07-8173-583508B8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A7F-E7FC-4D05-ACBA-768082FF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245-15BC-4B5E-AD59-7684030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88D-4209-497D-B623-5522BFF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0D7-577A-40D4-BE5F-D529536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7F2-E785-4883-9637-0D07C552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1BF-BC8A-49E5-8AA7-33767AA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AF9-0F58-435D-940E-1CACA03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A2F-E47D-4523-AFE0-733F37B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0D6ED-D0B5-4A87-A465-D70BB3737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