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05540"/>
        <c:axId val="79524806"/>
      </c:barChart>
      <c:catAx>
        <c:axId val="21905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24806"/>
        <c:crosses val="autoZero"/>
        <c:auto val="1"/>
        <c:lblAlgn val="ctr"/>
        <c:lblOffset val="100"/>
        <c:noMultiLvlLbl val="0"/>
      </c:catAx>
      <c:valAx>
        <c:axId val="79524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05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093-FBEF-4B6F-9A77-8DAA19AE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612-2B65-4124-BE64-DD1F529F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DDF-1C49-4FD4-B9D4-5AE9C209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B76-AFEF-41FE-A0E6-D482A3EC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170-0C11-4230-B262-4795113D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821-748B-47E7-84A5-C8AFDF6B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31E-BCBC-4104-8258-17C8B221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B53-8D5A-4F8E-8202-4B401C01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E15-916B-41D7-A246-53948D35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A33-75D4-4EE1-861F-E2190D0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225-172B-460A-9422-83BE511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EF5-0209-4F6D-AAD6-9B0FAB0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29D3B-8ED4-4600-9339-1AFE8D1397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