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54426"/>
        <c:axId val="55334385"/>
      </c:barChart>
      <c:catAx>
        <c:axId val="52254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34385"/>
        <c:crosses val="autoZero"/>
        <c:auto val="1"/>
        <c:lblAlgn val="ctr"/>
        <c:lblOffset val="100"/>
        <c:noMultiLvlLbl val="0"/>
      </c:catAx>
      <c:valAx>
        <c:axId val="55334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54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274-52AF-4CEB-A50A-D68419BD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F74-0CD1-440B-834F-86A6B28A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0E5-1347-425A-B4DB-E8D4B07C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50B-6FE7-471C-8AFF-C7F53A8F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DFB-5691-4AA0-865D-6FB064F5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F23-EBCB-4839-96F4-AB3B39A5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DCB-3F46-420E-A316-0554BED8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FD3-93C2-4944-BA92-C1DD860E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018-7D8C-4DD7-B2DC-EF3B81B5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B13-4855-4B87-BD32-3D342BEE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5B7-9108-414E-877B-E31920F0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651-D000-463C-83D7-EE5FEF05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23947-9196-4427-9C0B-807E3CDE9C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