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72794"/>
        <c:axId val="48326174"/>
      </c:barChart>
      <c:catAx>
        <c:axId val="20572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26174"/>
        <c:crosses val="autoZero"/>
        <c:auto val="1"/>
        <c:lblAlgn val="ctr"/>
        <c:lblOffset val="100"/>
        <c:noMultiLvlLbl val="0"/>
      </c:catAx>
      <c:valAx>
        <c:axId val="483261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72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6F1-AF49-4DC1-8042-769C89A6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850-D736-4BA3-A5DD-58371AAA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034-BF3F-4086-B4CE-0503C7A4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08C-E880-48EB-9E63-FF185189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852-2806-408B-B976-DA8BC917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FE54-5DA5-458C-B165-DFDD37E2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2E7C-C343-496B-B6C6-7A3F7384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4BE-5BD1-448E-AB2F-79871CCC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A6B0-031B-4060-813D-6FC5C093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DDEA-121F-49F8-A8FA-DF511791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03E-A607-425D-BF09-1CE6C767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71D-5F74-4059-9393-33344C0A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95D1E-2646-4715-878B-C85BC4978D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