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57742"/>
        <c:axId val="14010833"/>
      </c:barChart>
      <c:catAx>
        <c:axId val="37857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10833"/>
        <c:crosses val="autoZero"/>
        <c:auto val="1"/>
        <c:lblAlgn val="ctr"/>
        <c:lblOffset val="100"/>
        <c:noMultiLvlLbl val="0"/>
      </c:catAx>
      <c:valAx>
        <c:axId val="1401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7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0C2-5756-4359-B66F-90BA28A8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C60-515B-46E5-9A3F-7DFE8E7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30E-DCC7-4D6C-A26B-900945D3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8AA-C5EC-4063-B0B3-52D04913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756-376A-4819-8613-C86E8842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F93-AF00-489A-8D87-8847AD5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E1D-AE20-482F-B635-E0935004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D70-0984-44C0-AA9A-F7F2293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F43-18EE-402E-AF75-41B3F9E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DC9-B5BB-426A-8468-5EAAED1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A6E-A7F0-418B-8819-98FC5CD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4E2-0789-4804-BF90-9DA24EC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1CF9-9B4F-4A04-A68F-F1692B6F23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