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42517"/>
        <c:axId val="86954798"/>
      </c:barChart>
      <c:catAx>
        <c:axId val="21642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54798"/>
        <c:crosses val="autoZero"/>
        <c:auto val="1"/>
        <c:lblAlgn val="ctr"/>
        <c:lblOffset val="100"/>
        <c:noMultiLvlLbl val="0"/>
      </c:catAx>
      <c:valAx>
        <c:axId val="86954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42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033-9CE4-4B17-ADC8-B9338FDF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EF4-4940-4529-9E3C-2F2D923C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3DB-D0E1-4EE2-A5F0-2B01E87C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0CF-1BAD-4B63-B4E3-CE395A6C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78F-38A3-4FF4-9D26-A0692C28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E9A-D537-4FC6-BE62-03444F8A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7E1-B727-4AD6-8EB1-449D89B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FB4-A7AA-4152-B0D2-C52EDA4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C91-E1D1-4C9D-A941-A972E966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344-6718-43EB-A4F0-B2717F7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1A9-DCB1-4357-BAAA-C58A1B7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8FA-1D2F-401C-9546-D2A842A5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557D8-70DB-48E2-9257-E0D5B04385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