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519695"/>
        <c:axId val="23042452"/>
      </c:barChart>
      <c:catAx>
        <c:axId val="435196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042452"/>
        <c:crosses val="autoZero"/>
        <c:auto val="1"/>
        <c:lblAlgn val="ctr"/>
        <c:lblOffset val="100"/>
        <c:noMultiLvlLbl val="0"/>
      </c:catAx>
      <c:valAx>
        <c:axId val="230424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5196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783E-B2DF-488C-B43A-F3FCD3098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3783-27F2-4BD5-A526-011BF89F3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EB7B-A1A1-4E82-B698-77BD19F9F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9BBA-EF55-42E9-8ADE-DCC409504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19C1-4A40-41F7-9360-624573E4B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23C8-3D49-4176-ABB5-1BE0D9C76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F3BC-3487-411B-8232-03E736E4A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6FB3-AE03-4BEE-9B77-FDCF451BF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7A3A-55BF-4504-AD45-1AA479E65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06AB-78E7-4583-B455-AFC1EAA3C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E782-8E78-4083-8B6B-C4749F14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DD56-7413-489B-8146-9A05C0BA6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8D495D-884E-49BC-B474-DB9DE780CD4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