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30762"/>
        <c:axId val="31945843"/>
      </c:barChart>
      <c:catAx>
        <c:axId val="38330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45843"/>
        <c:crosses val="autoZero"/>
        <c:auto val="1"/>
        <c:lblAlgn val="ctr"/>
        <c:lblOffset val="100"/>
        <c:noMultiLvlLbl val="0"/>
      </c:catAx>
      <c:valAx>
        <c:axId val="31945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30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CD7-642B-4F0F-B799-D7E5E4CB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E21-34AE-47B8-BA90-A916F72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6E0-0924-4510-94DD-6F51F49A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642-0CEA-45F4-8942-E55D8AA4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F68-2EFE-4FCC-947A-CFF29970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F4F-D6BE-4B9E-8E9A-F66EEFE8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CAF-50B6-47C1-BA54-97072F0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1D6-F0CB-47CA-A3C0-7ED23CDD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8D8-E65D-4B9A-977D-9B52AB34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E07-BE45-4AF5-B72F-F027A39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034-B1F2-4423-97F8-12F5A1DB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CCF-5870-4E72-A54F-96756E1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AA597-A6E7-46C1-9DC1-0306C784F8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