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30489"/>
        <c:axId val="78382316"/>
      </c:barChart>
      <c:catAx>
        <c:axId val="85230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82316"/>
        <c:crosses val="autoZero"/>
        <c:auto val="1"/>
        <c:lblAlgn val="ctr"/>
        <c:lblOffset val="100"/>
        <c:noMultiLvlLbl val="0"/>
      </c:catAx>
      <c:valAx>
        <c:axId val="78382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30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188-12F3-4A82-87F9-E121228C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294-3949-444D-BAAC-B980D41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9C4-2887-4F26-9323-36125BD6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66B-2D09-46AC-9148-4C04FA4A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E02-013F-4E1D-9B5F-96F37BC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460-D18C-44C6-A822-1BCFD970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209-1663-46BF-95D1-048E8696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F7A-57CF-4740-88BC-0E4DC301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2E9-16F5-4D71-9BBF-C1C274BC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54F-D941-4270-88A1-CA7DD6B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EF5-9BE5-448C-9112-341242C0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4E4-7F08-442F-B35E-0969A6F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6A00B-DA29-4FC6-B122-752B7C8C0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