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27969"/>
        <c:axId val="72057522"/>
      </c:barChart>
      <c:catAx>
        <c:axId val="88727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57522"/>
        <c:crosses val="autoZero"/>
        <c:auto val="1"/>
        <c:lblAlgn val="ctr"/>
        <c:lblOffset val="100"/>
        <c:noMultiLvlLbl val="0"/>
      </c:catAx>
      <c:valAx>
        <c:axId val="72057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27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E79-20CD-4B3B-95F8-83478D6F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8E6-4530-4C1E-B9A7-996467CA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EA45-5BA7-48B5-AF96-29A68E1D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98D-D219-4889-B2D5-07C21F89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BEC-38E5-4E29-A3CE-24006658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0E3-158E-4356-996E-F2C1BA3B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C3A-8647-4AF9-8123-3A767B3F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EFB-E40B-41A0-BB6A-92538D50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31E-CE29-4E94-A7F8-F9CF8044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D29-317E-4F58-A99C-3D79E4A9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7F52-6DCD-451D-8676-3BB6D7E2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D83-0A13-4DF6-84CA-DDBFFFB3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C788D-8480-43A1-B959-563F119AA5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