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2460"/>
        <c:axId val="80498654"/>
      </c:barChart>
      <c:catAx>
        <c:axId val="1132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98654"/>
        <c:crosses val="autoZero"/>
        <c:auto val="1"/>
        <c:lblAlgn val="ctr"/>
        <c:lblOffset val="100"/>
        <c:noMultiLvlLbl val="0"/>
      </c:catAx>
      <c:valAx>
        <c:axId val="80498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A32-BBC3-493D-B331-B049EEA8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4A7-9480-48FE-82EA-B2AA76D7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288-FCD2-48B1-BF4B-601ED69C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220-6480-497D-8F91-331859DA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101-7F19-40D6-A205-5C1A6AC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E0A-0E85-40BF-A950-AF386BD6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44A-E2AF-4B50-A03A-92FB556A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A97-8ED1-4758-ABA0-89C7972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9CF-B881-4402-BD3C-930B111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861-6F78-44FA-8403-93EF562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345-AF8B-47B8-B732-354C224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135-DBC0-416A-93CA-CA85CCF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E7AD-0F0D-4807-9604-19CBBD60A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