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30195"/>
        <c:axId val="44753293"/>
      </c:barChart>
      <c:catAx>
        <c:axId val="41230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53293"/>
        <c:crosses val="autoZero"/>
        <c:auto val="1"/>
        <c:lblAlgn val="ctr"/>
        <c:lblOffset val="100"/>
        <c:noMultiLvlLbl val="0"/>
      </c:catAx>
      <c:valAx>
        <c:axId val="44753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30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158-2239-4BEA-83A6-F3A0A6FB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8BB-BDEE-4243-A6BF-5BB2B038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522-6DEA-4C28-BF1A-36EB727D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546-EA36-4EEB-9F7B-D6D6D848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7ED-C38C-4850-9900-61714C87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26C-9288-4153-B4FC-EB9400DB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C75-E09D-41A4-9246-22C1301C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C4B-50CF-41F2-A0BD-12E75D0D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BCB-A1E9-4E2F-86C2-3FB5434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C13-A824-45A3-A624-E981AF9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6DF-8A66-4E8F-81C1-4675771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71A-3CE2-4CEF-86C8-D91E1D56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FC981-0539-4987-8F86-B6F9E8735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