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718798"/>
        <c:axId val="94555807"/>
      </c:barChart>
      <c:catAx>
        <c:axId val="507187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55807"/>
        <c:crosses val="autoZero"/>
        <c:auto val="1"/>
        <c:lblAlgn val="ctr"/>
        <c:lblOffset val="100"/>
        <c:noMultiLvlLbl val="0"/>
      </c:catAx>
      <c:valAx>
        <c:axId val="945558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187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E7E0-9F12-406C-AF9A-21259A70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EF93-5A5C-4690-A32D-B2CAEE62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F37A-902B-409D-AF19-334C8A91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9A57-2C38-4AC7-8C1A-83884D2D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E4C5-E849-47DA-B7F2-6AF6D8DF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0162-C74C-4AF6-89D3-4B1CE5FD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4911-3E35-4119-B200-0FC2DE6E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74D5-6AED-46E7-9BB6-3DEC3178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E67D-9525-4E78-914B-779DD1D1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E499-0798-4086-948B-D28B8424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A209-BB82-41E3-A947-B147969B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7C78-056C-4812-ACCF-2AF252E9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2FBEF-34C3-4639-9528-DFC51614DB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