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25818"/>
        <c:axId val="36459718"/>
      </c:barChart>
      <c:catAx>
        <c:axId val="50525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9718"/>
        <c:crosses val="autoZero"/>
        <c:auto val="1"/>
        <c:lblAlgn val="ctr"/>
        <c:lblOffset val="100"/>
        <c:noMultiLvlLbl val="0"/>
      </c:catAx>
      <c:valAx>
        <c:axId val="36459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5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ACE-D93E-49C1-B862-124E9A17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97C-B8C6-4C47-A193-3FFF5C69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FBC-D08C-44C2-8F6D-FE131185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DF2-5601-4E35-9BEE-0FD59F43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3D6-C2F5-416A-9442-84E16533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8E4-7964-45B9-8134-E9A75BB6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C5C-920D-449F-8CE0-4F540AD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8FC-2761-4294-A4C6-9182116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031-E8BF-435A-9C9E-325FECF6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D4B-6658-49E5-99D4-F205E20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022-57F9-408D-B538-F0D6F2C1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510-510E-4E66-BEB4-A68141B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9C9E0-93F2-4EEA-BF29-091276868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