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23426"/>
        <c:axId val="2766170"/>
      </c:barChart>
      <c:catAx>
        <c:axId val="4392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6170"/>
        <c:crosses val="autoZero"/>
        <c:auto val="1"/>
        <c:lblAlgn val="ctr"/>
        <c:lblOffset val="100"/>
        <c:noMultiLvlLbl val="0"/>
      </c:catAx>
      <c:valAx>
        <c:axId val="2766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150-FE5A-421E-B9BF-469A781D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554-BC0A-421A-8F44-CF9E70AC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E40-CBE0-4175-9A7D-E71D1794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238-5FF4-4A57-8D06-3586C10E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827-E1A7-45EC-AA34-98E5EC77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B2E-B165-485D-BC97-57DC07F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03B-F159-4755-BA72-7D8BEFA1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354-1C07-4B56-971B-51D6B88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3B5-C8E2-42A0-ADB2-E77C79ED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114-3040-406B-9CFA-04AE7E74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648-FE82-402C-93B9-859A214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464-FC57-40C8-AF3F-1C4001D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9FC55-F9D8-4060-8FA3-64FD3AAA46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