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36226"/>
        <c:axId val="60007962"/>
      </c:barChart>
      <c:catAx>
        <c:axId val="26536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07962"/>
        <c:crosses val="autoZero"/>
        <c:auto val="1"/>
        <c:lblAlgn val="ctr"/>
        <c:lblOffset val="100"/>
        <c:noMultiLvlLbl val="0"/>
      </c:catAx>
      <c:valAx>
        <c:axId val="60007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36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16C-B593-48C1-9A79-A9C99AA5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FBA-2D6E-4B54-9219-44243168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A82-281C-494F-BB85-89BBA0BD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605-29D7-449D-B96D-49C2E753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058-55A0-4950-88DE-6437F568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8C2-C285-4467-ACD8-8441FDC6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E06-D4C9-4FDB-9A6A-D0C0B5FE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743-01ED-4A38-9A67-5ED26E9B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E5F-D370-4A0E-8C96-131F1EE7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29D-FB7F-4C46-BBCD-BAA7B07A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8DE-A2C4-4147-8BBD-7AD8B598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5F7-0DF4-4FD8-BA73-741CF0C1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2C3C1-19B2-449B-8DF4-3BDB4A6233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