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26340"/>
        <c:axId val="73460629"/>
      </c:barChart>
      <c:catAx>
        <c:axId val="34926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60629"/>
        <c:crosses val="autoZero"/>
        <c:auto val="1"/>
        <c:lblAlgn val="ctr"/>
        <c:lblOffset val="100"/>
        <c:noMultiLvlLbl val="0"/>
      </c:catAx>
      <c:valAx>
        <c:axId val="734606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26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6FE9-7390-4928-928A-91A172BA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EFD7-C3AA-4E37-8BB9-FC953365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F382-65BE-4372-9DB3-5E460A0D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BA89-F158-4248-9A8A-CA2E7B56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65C1-A136-472A-9FC1-B0E244D5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46F-B0EF-4056-85CF-1EE00D03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4F73-7E81-4F38-8021-F279FC1D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F1F8-EAEF-4C76-B54A-5267DF3C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2291-79AB-4CCF-B540-51986A85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CE4F-97A9-4A78-8F68-D0761AE5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0884-6E68-48F5-B7C3-425F6636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DFA8-091F-487D-BE43-18197E70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750C7-955E-4EE8-893D-854D71D049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