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867002"/>
        <c:axId val="43082195"/>
      </c:barChart>
      <c:catAx>
        <c:axId val="518670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82195"/>
        <c:crosses val="autoZero"/>
        <c:auto val="1"/>
        <c:lblAlgn val="ctr"/>
        <c:lblOffset val="100"/>
        <c:noMultiLvlLbl val="0"/>
      </c:catAx>
      <c:valAx>
        <c:axId val="430821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670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2D4E-B13A-4EAC-B383-7D565B9F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FC33-0974-47F8-8AE6-6FBBC10E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36D0-C448-41A7-B566-3B6928522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62BF-A86E-4AFD-A255-35182DC4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82FA-2184-4419-A5D0-834122B2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1C17-4DF9-4ED2-B787-8C0D528B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E98-80A1-4570-9C02-E9EC9360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CD70-72BD-4AE0-8642-153BD4A8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EDD4-04B2-4D25-82CF-43FFADA9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D0A-8400-4678-87DD-00CC5940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6C9A-8290-400B-B243-8F09656D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31A1-9EEF-4EF6-B1EB-9F9F93F6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969E8-DF01-4BB7-B792-25F43A9F6F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