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84334"/>
        <c:axId val="64006226"/>
      </c:barChart>
      <c:catAx>
        <c:axId val="784843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06226"/>
        <c:crosses val="autoZero"/>
        <c:auto val="1"/>
        <c:lblAlgn val="ctr"/>
        <c:lblOffset val="100"/>
        <c:noMultiLvlLbl val="0"/>
      </c:catAx>
      <c:valAx>
        <c:axId val="640062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843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52B-5EB7-4C5C-85DF-04759337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FA8-562C-4129-8CBD-ABC48C16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9381-C7D1-402B-8D0D-8DD92E67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EA2-CD78-45D8-BB07-2BEC83BF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1633-2A35-41E5-B8EA-6ECF579F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324B-5779-442D-A62A-6CD6ED77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D5F1-4362-41F8-B73F-D681C17A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2DC8-6D50-4F83-A286-4D164D8A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4F55-7508-4BC9-8D63-8773ECAA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B149-6501-4514-B46F-A6FA8EC2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9DD5-B270-4DE1-B554-34DDAD01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0CEF-6D78-4A70-BABC-E5FA1EC9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EDBB7-ED3E-4658-9366-029A9E9448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