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16161"/>
        <c:axId val="71040957"/>
      </c:barChart>
      <c:catAx>
        <c:axId val="59916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040957"/>
        <c:crosses val="autoZero"/>
        <c:auto val="1"/>
        <c:lblAlgn val="ctr"/>
        <c:lblOffset val="100"/>
        <c:noMultiLvlLbl val="0"/>
      </c:catAx>
      <c:valAx>
        <c:axId val="71040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16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C77-B38C-45FD-A332-43B7D7CD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26B-FE11-435B-BAE4-C255B9E7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AA3-E45C-4B6A-B49B-3FB73771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EE75-0CAF-423E-9C9B-462706DA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91A-23D4-4798-989F-0D81C687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3363-F52B-45A1-950D-F7FBF728C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78A4-BFBC-4566-A049-117F39EF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0EC4-EAB3-4E91-90F3-D5A44FF6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CBD5-4575-43B2-BE05-3CE163CB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D1E8-6D48-461D-8C60-E3BF4D91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609-CBD5-49C4-827F-0F6A75AD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8FBF-A4D5-47BB-8E21-9FA7D3E7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B64AB-481F-4D7F-9E54-CB4EC25D64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